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7203-D28F-4DA6-94EB-E73EE5229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96EC-9AAF-4DE9-AA5A-25E4BF5E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08A4-2E26-44AF-B468-378239EBD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BF3E-E674-4C52-883F-D864293A9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16CE-5757-43E7-96B0-7272E844D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0D51-62D3-46AD-89E4-E5F14AD8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3B85-A7C7-4BD7-8337-1AE3FAA4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77B9-593D-4B96-B9E0-71B15AAD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FC92-4B51-4D71-8120-845F6428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C7B68-4240-47B8-B190-AA9A4CE5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DE4D-9397-4822-97EE-FCAF5516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7204-E7CF-4804-9123-16229A81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AC0C-3E26-4EF0-8A11-CEE7BC41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F7C3-6DD1-4715-ADF6-995AE152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EE66-4B72-47B5-BBCA-5CB8A9F1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8BF1-D935-49B8-814B-EB6DE5EFE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2740-215E-4EB7-832B-E77AF468F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3EC1-F4FA-43A3-932C-CC1A68CD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3978-2334-4D00-8906-C367708D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1F5E-2506-46A3-A52B-F8AAE42F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E540-04FC-44E5-A594-D7576D25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07E0-4339-46AF-A195-583EB011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39E0-7E98-4C00-ADFD-8470109C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68AC-EC80-4A39-BC7B-AF4F9324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5B43-0F0D-4949-8E67-D4062EFF02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42A3-8AC0-441C-AB3A-17875B2030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1: Nonlinear functions and their 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11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 symmetry in the graph of a func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metric with respect to the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133720" y="2209680"/>
            <a:ext cx="5257800" cy="40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e if a function is odd, even, or neith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 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nction is even if f(x)=f(-x) for every x in its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276720" y="3048120"/>
            <a:ext cx="403848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it ev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0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e if a function is odd, even, or neith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d 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nction is odd if f(-x)= -f(x) for every x in its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62520" y="3124080"/>
            <a:ext cx="3657600" cy="33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it od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4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 = 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4x + 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assig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251-2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-16 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-48 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0-90 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 terminology about polynomial fun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intervals when a function is increasing or decre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extrema of a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symmetry in the graph of a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if a function is odd, even, or nei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arn terminology about polynomial func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nomial function: function with a variable raised to a power higher tha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ing coefficient: numerical value of the term that has the highest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: the highest power in a given polynomial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form of a polynomial fun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a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b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.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he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degree and the leading coeffici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-1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1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 intervals when a function is increasing or decreasing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increases w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&lt;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decreases 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&gt;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1687" t="10773" r="0" b="0"/>
          <a:stretch/>
        </p:blipFill>
        <p:spPr>
          <a:xfrm>
            <a:off x="3657600" y="1371600"/>
            <a:ext cx="505764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 intervals when a function is increasing or decreasing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s f increas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s f decreas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1687" t="10773" r="0" b="0"/>
          <a:stretch/>
        </p:blipFill>
        <p:spPr>
          <a:xfrm>
            <a:off x="3657600" y="1371600"/>
            <a:ext cx="505764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 the extrema of a function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lute extre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c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≥ f(x) for all values of x (global/absolute maximu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c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 f(x) for all values of x (global/absolute minimu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410080" y="137160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562720" y="39625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 the extrema of a function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extre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c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≥ f(x) for all values of x close to c (local/relative maxim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c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≤ f(x) for all values of x close to c (local/relative minim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49528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 symmetry in the graph of a func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metric with respect to the y 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362320" y="2895480"/>
            <a:ext cx="403848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6:16:05Z</dcterms:created>
  <dc:creator>nuhs</dc:creator>
  <dc:description/>
  <dc:language>en-US</dc:language>
  <cp:lastModifiedBy>nuhs</cp:lastModifiedBy>
  <dcterms:modified xsi:type="dcterms:W3CDTF">2008-02-11T21:21:37Z</dcterms:modified>
  <cp:revision>6</cp:revision>
  <dc:subject/>
  <dc:title>4.1: Nonlinear functions and their graphs</dc:title>
</cp:coreProperties>
</file>